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597-E218-4445-B0DC-EA2E5D0F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1CB-AF87-4F94-BEBB-8396F4D9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390-09E5-4FC1-8890-B9F6CE21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ECD-4D64-4153-A5E4-84285CEF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CC8-B9BD-4ECE-B7BA-912BBAC7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29E-1560-44AB-8665-5C8C7986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B36-5A6D-452D-96F3-7B7207E0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B9F-3CA4-4DAD-9046-43BCA2BF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FFC-3815-4F34-AFD1-94239238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038-CC7A-4AC3-BC8F-6CB7167F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124-F757-4736-99EE-89BBBB82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A09-1503-412A-9B26-3F4666A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14A-4FD7-485C-861B-BBE778D9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16Z</dcterms:modified>
  <cp:revision>3</cp:revision>
  <dc:subject/>
  <dc:title>Words in a “Snap”</dc:title>
</cp:coreProperties>
</file>